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31.wmf" ContentType="image/x-wmf"/>
  <Override PartName="/ppt/media/image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2.wmf" ContentType="image/x-wmf"/>
  <Override PartName="/ppt/media/image45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13.png" ContentType="image/png"/>
  <Override PartName="/ppt/media/image52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51.wmf" ContentType="image/x-wmf"/>
  <Override PartName="/ppt/media/image11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A41-70E7-4D9C-A592-3AE9DA53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0C8-6B15-41E3-BA02-E2562D1C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C2B-B7F8-47BC-9AA1-0ACC58F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777-ED2F-48DD-AE38-A6D3A09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FD0-8562-43E7-AEE1-94C93F3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5B8-6C3D-4CA5-961A-497030D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368-82F6-499C-879A-78BC5566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7EC-5FF4-4A60-9D88-94482397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140-FF6E-4ED9-BD13-3B228614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973-BCF3-40DA-9A1B-9371297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585-7661-4323-BAA6-4BF2A0FA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76A-931E-45E3-A345-3039F6E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5C55-C0C4-440B-8F1E-30960F21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halincraft-india.com/images/sculp009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templeinstitute.org/photo-gallery/000110_menorah.jpg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Belie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’ reference to Christians and Jews as “People of the Book” demonstrates they all shared a belief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the po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the fiv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monothe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dh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53352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Questions Ask about Commonal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Up Ribbon 3"/>
          <p:cNvSpPr/>
          <p:nvPr/>
        </p:nvSpPr>
        <p:spPr>
          <a:xfrm rot="20227200">
            <a:off x="658440" y="1851120"/>
            <a:ext cx="7696080" cy="2590560"/>
          </a:xfrm>
          <a:custGeom>
            <a:avLst/>
            <a:gdLst>
              <a:gd name="textAreaLeft" fmla="*/ 1923840 w 7696080"/>
              <a:gd name="textAreaRight" fmla="*/ 5772240 w 7696080"/>
              <a:gd name="textAreaTop" fmla="*/ 0 h 2590560"/>
              <a:gd name="textAreaBottom" fmla="*/ 2158920 h 25905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ytheism/P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f in many gods – often nature gods because unable to explain/control natural phenome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 – priests (Greeks – Zeus, Romans – Jupiter, Egyptians – Ra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– myths (often oral) – Hesiod, H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s – river civilizations, classical civs of Greece &amp; 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– Romans practi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cret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lending of religions) to expand empir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nthe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will us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erial c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ify it – will com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flict with monotheistic faiths like Judaism/Christianity (Jews at Masada, Diocletian with 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2280" y="133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the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incar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oul – reac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ks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neness with Brahm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- pri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457200" y="1981080"/>
            <a:ext cx="3962520" cy="2438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urti:  Brahman (“head” g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va (destroyer go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hnu (preserver g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statue 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3605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relig6"/>
          <p:cNvPicPr/>
          <p:nvPr/>
        </p:nvPicPr>
        <p:blipFill>
          <a:blip r:embed="rId1"/>
          <a:stretch/>
        </p:blipFill>
        <p:spPr>
          <a:xfrm>
            <a:off x="0" y="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aste System"/>
          <p:cNvPicPr/>
          <p:nvPr/>
        </p:nvPicPr>
        <p:blipFill>
          <a:blip r:embed="rId2"/>
          <a:stretch/>
        </p:blipFill>
        <p:spPr>
          <a:xfrm>
            <a:off x="5105520" y="2666880"/>
            <a:ext cx="40384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elig5"/>
          <p:cNvPicPr/>
          <p:nvPr/>
        </p:nvPicPr>
        <p:blipFill>
          <a:blip r:embed="rId1"/>
          <a:stretch/>
        </p:blipFill>
        <p:spPr>
          <a:xfrm>
            <a:off x="304920" y="53352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1"/>
          <p:cNvSpPr/>
          <p:nvPr/>
        </p:nvSpPr>
        <p:spPr>
          <a:xfrm>
            <a:off x="6781680" y="1676520"/>
            <a:ext cx="1828800" cy="12189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DAS (written in sanskr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543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iver is most closely associated with Hindu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N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Tig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Yel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G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practices Hinduism would most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believe the Vedas are sac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worship in a synag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pray facing Me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make a pilgrimage to Jerusa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rs of Hinduism are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fulfill their dharma for a favorable reincar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complete a pilgrimage to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obey the Ten Comma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follow the Eightfold Path to achieve enlighte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Found on Re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ften as Essay – but there have bee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 – quite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relig7"/>
          <p:cNvPicPr/>
          <p:nvPr/>
        </p:nvPicPr>
        <p:blipFill>
          <a:blip r:embed="rId1"/>
          <a:stretch/>
        </p:blipFill>
        <p:spPr>
          <a:xfrm>
            <a:off x="304920" y="0"/>
            <a:ext cx="7772400" cy="582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India-Pakistan-Title"/>
          <p:cNvPicPr/>
          <p:nvPr/>
        </p:nvPicPr>
        <p:blipFill>
          <a:blip r:embed="rId2"/>
          <a:stretch/>
        </p:blipFill>
        <p:spPr>
          <a:xfrm>
            <a:off x="3733920" y="3276720"/>
            <a:ext cx="488952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533520" y="350532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n not mar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utside of c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8600" y="541008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"/>
          <p:cNvCxnSpPr/>
          <p:nvPr/>
        </p:nvCxnSpPr>
        <p:spPr>
          <a:xfrm flipV="1">
            <a:off x="3276360" y="2819160"/>
            <a:ext cx="610200" cy="2591280"/>
          </a:xfrm>
          <a:prstGeom prst="straightConnector1">
            <a:avLst/>
          </a:prstGeom>
          <a:ln w="4140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ne way the conflict between India and Pakistan over Kashmir and the conflict between the Palestinians and Israelis in the Middle East are simi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Both conflicts concern territorial and religiou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Hostilities within these regions were provoked by the United 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Both conflicts emerged as a result of the breakup of the Soviet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ensions in these regions were caused by efforts to remain non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large numbers of Hindus and Muslims migrate immediately after India gained its indepe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Many jobs were being outsourced over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The government offered housing incentives in newly developed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Religious pilgrimages to neighboring countries were required based on their belie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he subcontinent was divided into countries based primarily on the location of religious maj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952880" y="54864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in which apartheid in South Africa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s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stem in India are similar is that bot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llowed for educational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determined roles based on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revolved around central religiou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enforced different sets of rules for distinct group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relig8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577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nara"/>
          <p:cNvPicPr/>
          <p:nvPr/>
        </p:nvPicPr>
        <p:blipFill>
          <a:blip r:embed="rId2"/>
          <a:stretch/>
        </p:blipFill>
        <p:spPr>
          <a:xfrm>
            <a:off x="2552760" y="3860640"/>
            <a:ext cx="43815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uddhism1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relig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relig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533520" y="4648320"/>
            <a:ext cx="7924680" cy="1904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Mauryan Empire 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oka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will convert to and create Sacred Edicts throughout Empire to end civil wars – will neglect army and eventual coll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use collapse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of moral fiber in China and people leaving Confucian loyalt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emperor.  Under Tang will amass lots of wealth that will cause the emperor to be jeal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52480" y="52704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276720" y="1967040"/>
            <a:ext cx="914400" cy="380880"/>
          </a:xfrm>
          <a:prstGeom prst="rect">
            <a:avLst/>
          </a:prstGeom>
          <a:noFill/>
          <a:ln w="57240">
            <a:solidFill>
              <a:srgbClr val="ff0000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noFill/>
          <a:ln w="57240">
            <a:solidFill>
              <a:srgbClr val="ff0000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9436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0 DB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38040" y="1857240"/>
            <a:ext cx="8467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relig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8"/>
          <p:cNvSpPr txBox="1"/>
          <p:nvPr/>
        </p:nvSpPr>
        <p:spPr>
          <a:xfrm>
            <a:off x="4648320" y="2362320"/>
            <a:ext cx="923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m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4114800"/>
            <a:ext cx="7315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re are </a:t>
            </a:r>
            <a:r>
              <a:rPr b="0" i="1" lang="en-US" sz="2400" spc="-1" strike="noStrike">
                <a:solidFill>
                  <a:srgbClr val="333399"/>
                </a:solidFill>
                <a:latin typeface="Trebuchet MS"/>
              </a:rPr>
              <a:t>"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rebuchet MS"/>
              </a:rPr>
              <a:t>Four Affirmations“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n Shi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Tradition and the family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he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family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is seen as the main mechanism by which traditions are preserved. Their main celebrations relate to birth and marriage. (closely connected to Confucian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shrine_05"/>
          <p:cNvPicPr/>
          <p:nvPr/>
        </p:nvPicPr>
        <p:blipFill>
          <a:blip r:embed="rId1"/>
          <a:stretch/>
        </p:blipFill>
        <p:spPr>
          <a:xfrm>
            <a:off x="0" y="0"/>
            <a:ext cx="6172200" cy="4113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6477120" y="380880"/>
            <a:ext cx="24541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Shinto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raditional Japanese religion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spect for natur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.  Worshippe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kam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(spir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90720" y="449568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Physical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cleanliness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hey take baths, wash their hands, and rinse out their mouth of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"Matsuri"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To worship and honor gods and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ancestral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spir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562720" y="22860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rebuchet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Love of nature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: Nature is sacred; to be in contact with nature is to be close to the Gods. 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Natural objects are worshipped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s sacred spir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rine_08"/>
          <p:cNvPicPr/>
          <p:nvPr/>
        </p:nvPicPr>
        <p:blipFill>
          <a:blip r:embed="rId1"/>
          <a:stretch/>
        </p:blipFill>
        <p:spPr>
          <a:xfrm>
            <a:off x="-457200" y="0"/>
            <a:ext cx="62485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way in which animism, Shinto, and Daoism are simi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emphasis on harmony with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monotheistic belief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belief in the idea of nir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reliance on the teachings of the Ve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066680" y="1716120"/>
            <a:ext cx="6791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li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Flowchart: Alternate Process 1"/>
          <p:cNvSpPr/>
          <p:nvPr/>
        </p:nvSpPr>
        <p:spPr>
          <a:xfrm>
            <a:off x="3657600" y="2590920"/>
            <a:ext cx="1600200" cy="609480"/>
          </a:xfrm>
          <a:prstGeom prst="flowChartAlternateProcess">
            <a:avLst/>
          </a:prstGeom>
          <a:solidFill>
            <a:srgbClr val="ff0000">
              <a:alpha val="2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elig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nfucius1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le 1"/>
          <p:cNvSpPr/>
          <p:nvPr/>
        </p:nvSpPr>
        <p:spPr>
          <a:xfrm>
            <a:off x="5334120" y="5181480"/>
            <a:ext cx="152388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1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reli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533520" y="5181480"/>
            <a:ext cx="8381880" cy="129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 Dynasty will use to cre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vil service exam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d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ud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; later scholar-gentry based o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gols rejec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fucianism causing conflicts with Scholar Ge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95160" y="1547640"/>
            <a:ext cx="77536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cian loyalty to government is reason why Communism had easy time entering and lasting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562560" cy="588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3337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ndividual developed an Asian philosophy associated with the five relationships, filial piety, and the Anal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Laozi (Lao Tz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Confuc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Han W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Siddhartha Gau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in which filial piety in Confucian China and citizenship in ancient Athens are similar is th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emphasized duties and responsibilities i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ncouraged the development of advance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promoted respect for the 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required that legalist principles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elief system was the basis for the civil service exams given during the Han, Tang, and Song dynas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legal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Buddh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Dao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relig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otze1"/>
          <p:cNvPicPr/>
          <p:nvPr/>
        </p:nvPicPr>
        <p:blipFill>
          <a:blip r:embed="rId1"/>
          <a:stretch/>
        </p:blipFill>
        <p:spPr>
          <a:xfrm>
            <a:off x="230040" y="171360"/>
            <a:ext cx="8683920" cy="651348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le 1"/>
          <p:cNvSpPr/>
          <p:nvPr/>
        </p:nvSpPr>
        <p:spPr>
          <a:xfrm>
            <a:off x="685800" y="52578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1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relig11"/>
          <p:cNvPicPr/>
          <p:nvPr/>
        </p:nvPicPr>
        <p:blipFill>
          <a:blip r:embed="rId1"/>
          <a:stretch/>
        </p:blipFill>
        <p:spPr>
          <a:xfrm>
            <a:off x="-228600" y="-22860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000110_menorah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9640" y="2514600"/>
            <a:ext cx="2725920" cy="406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2"/>
          <p:cNvSpPr/>
          <p:nvPr/>
        </p:nvSpPr>
        <p:spPr>
          <a:xfrm>
            <a:off x="2895480" y="1600200"/>
            <a:ext cx="2743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raham -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1"/>
          <p:cNvSpPr/>
          <p:nvPr/>
        </p:nvSpPr>
        <p:spPr>
          <a:xfrm>
            <a:off x="2971800" y="2057400"/>
            <a:ext cx="990720" cy="457200"/>
          </a:xfrm>
          <a:prstGeom prst="roundRect">
            <a:avLst>
              <a:gd name="adj" fmla="val 16667"/>
            </a:avLst>
          </a:prstGeom>
          <a:solidFill>
            <a:srgbClr val="bbe0e3">
              <a:alpha val="2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reli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el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2895480" y="316224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Questions one exam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243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aism - Pers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 Captivity by Assyrians (displa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i-Semitis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rusades targeted, charged with causing black death in 13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nqui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sabella/Ferdinand in Spain – Spanish In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roms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Camp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loca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uschwit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late 19th century, Zionism focu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securing safe working conditions for urban factory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cquiring a homeland for displaced Jewis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establishing colonies in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developing a strict set of laws based on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emberg laws are best describ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efforts of the Roman Catholic Church to punish he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ajor articles in the Declaration of the Rights of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specific laws contained in Justinian’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anti-Semitic laws of 20th-century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952880" y="5334120"/>
            <a:ext cx="3200400" cy="12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relig14"/>
          <p:cNvPicPr/>
          <p:nvPr/>
        </p:nvPicPr>
        <p:blipFill>
          <a:blip r:embed="rId1"/>
          <a:stretch/>
        </p:blipFill>
        <p:spPr>
          <a:xfrm>
            <a:off x="0" y="0"/>
            <a:ext cx="7238880" cy="542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rucifixion"/>
          <p:cNvPicPr/>
          <p:nvPr/>
        </p:nvPicPr>
        <p:blipFill>
          <a:blip r:embed="rId2"/>
          <a:stretch/>
        </p:blipFill>
        <p:spPr>
          <a:xfrm>
            <a:off x="6172200" y="2590920"/>
            <a:ext cx="25351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reli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thol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atin America, western Europe, and US, leader is Pope – importance during Middle Ages – Charlemagne crowned by Pope Leo III (tithe), Urban II calls for Crusades; Spanish Inquisition, Great Schism (Babylonian Captivity), divine right monarchy support to Absolutist (Louis XIII – Cardinal Richelieu controls), split with England over control of heir, exploration – destruction of Aztec codex w/forced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-Reformation and creation of Jesuits (convert China/Japan – Francis Xav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thodox Christian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eastern Europe, no pope – Patriarch – Byzantine Empire had emperor as leader of faith (caesaropapism), Schism of 1054 w/Catholic Church, differences w/Catholics – priests can marry, iconoclasm, issue of trin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zantine government will have stable bureaucracy because led by monks, influence Russia w/St. Cyril and Methodius (Cyrillic Alphab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s of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es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reak from Medieval Control of Catholic Church, northern Europe (including England), primacy of Bible (vernacul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Luther, 1519, 95 Thesis, opposed sale of indulgences, want Bible in German, not goods but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m – Swiss – pre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ican – Henry VIII w/Act of Supremacy (Queen Victoria’s desire to convert natives in imperialism – Livingstone in Africa, ending sati in 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ects splinter the Christian faith (Baptist, Presbyterian, Methodis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effect of the Protestant Reformation on western Europe wa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decline in religious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increased power of the Catholic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reduction in religious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increase in the sale of indulgences by the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in which Martin Luther’s Ninety-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s and Henry VIII’s Act of Supremacy are similar is th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emphasize the importance of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caused the Thirty Years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challenge the authority of the Catholic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helped to unify Christe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4 exa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01940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74840" y="2600280"/>
            <a:ext cx="407664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4890960" y="1585800"/>
            <a:ext cx="4238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the Cyrillic alphabe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dox Christianity to Russia is most closely associa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Viking con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Byzantine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Alexander the Great’s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Ottoman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Catholicism a major religion practiced in Latin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Spain conquered and colonized much of Lat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Disputes over international boundaries within Latin America were settled by the p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The traditional beliefs of Africans were incorporated into the cultures of Lat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The Church provided Latin America with a strong cent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relig2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MUSLIM(MALI)"/>
          <p:cNvPicPr/>
          <p:nvPr/>
        </p:nvPicPr>
        <p:blipFill>
          <a:blip r:embed="rId2"/>
          <a:srcRect l="0" t="6605" r="0" b="0"/>
          <a:stretch/>
        </p:blipFill>
        <p:spPr>
          <a:xfrm>
            <a:off x="1695600" y="3254400"/>
            <a:ext cx="575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rel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>
            <a:off x="533520" y="2590920"/>
            <a:ext cx="3047760" cy="1066680"/>
          </a:xfrm>
          <a:prstGeom prst="rightArrow">
            <a:avLst>
              <a:gd name="adj1" fmla="val 50000"/>
              <a:gd name="adj2" fmla="val 714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410080" y="3124080"/>
            <a:ext cx="3429000" cy="1067040"/>
          </a:xfrm>
          <a:prstGeom prst="leftArrow">
            <a:avLst>
              <a:gd name="adj1" fmla="val 50000"/>
              <a:gd name="adj2" fmla="val 80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L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685800" y="4648320"/>
            <a:ext cx="2971800" cy="99036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relig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533520" y="563868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m Impacts - conflic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i/Shiit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ades – 10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Gunpowder Empires (Ottomans, Safavids, and Mughals) around trade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-Palestinian Conflict since 1917 Balfour Declaration/1948 Creation of State of Isra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ian Revolution - 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mohamm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943600" cy="25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5715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5181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of Ayatollah Khomeini attempted to change Iranian society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implementing Islamic fundamentalist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extending political equality to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allying with communist blo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adopting a western econom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952880" y="5257800"/>
            <a:ext cx="3200400" cy="12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for Glob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Questions Ask Generalities about Religion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7200" y="2325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uryan Emperor Asoka incorporates Buddh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s into his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ine legalizes Christianity throughout his emp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e Vladimir forces Russians to become Eastern Orthodox Christi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generalization can be made based on these stat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Religions have had little impact on the development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Many political leaders discouraged religi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Leaders are often influenced by cultural belief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Christianity has been a dominant force in Europe and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3"/>
          <p:cNvSpPr/>
          <p:nvPr/>
        </p:nvSpPr>
        <p:spPr>
          <a:xfrm>
            <a:off x="201600" y="1417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4578120" cy="265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7053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tatement about the Islamic Golden Age is a fact rather than an opin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Islamic medicine was more advanced than Chinese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Poetry and literature were more important fields of study for Muslims than was 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Knowledge of astronomy was used by Muslims to fulfill religious oblig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 Islamic philosophies relied less on Greek philosophical masters than on Indian philosophical ma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chievement is most closely associated with Mansa Musa of M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an increase in the influence of Isla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the discovery of diamonds in the C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the defeat and capture of Ca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an exclusive trade agreement with European merc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reli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Ask Generalities about Religion and History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oka incorporated Buddhist ideas into the laws he had carved on rocks and pillars placed throughout the Maury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ine made Christianity the official religion of the Rom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 Vladimir required all Russians to become Eastern Orthodox Christi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lization can be made based on these stat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Leaders often use religion to unify an emp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ny political leaders encourage religious to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Leaders sometimes use religion as a reason to wage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Political leaders usually become the head of the church in thei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n Commandments, the Eightfold Path, and the Five Pillars of Faith each ser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provide followers with a guide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stablish systems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establish distinctions between social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provide regulations for governm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4366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 Ask about Commonal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8:32:42Z</dcterms:created>
  <dc:creator>lyonsaj</dc:creator>
  <dc:description/>
  <dc:language>en-US</dc:language>
  <cp:lastModifiedBy>Windows User</cp:lastModifiedBy>
  <cp:lastPrinted>2014-06-03T11:09:57Z</cp:lastPrinted>
  <dcterms:modified xsi:type="dcterms:W3CDTF">2015-05-28T14:46:17Z</dcterms:modified>
  <cp:revision>43</cp:revision>
  <dc:subject/>
  <dc:title>Slide 1</dc:title>
</cp:coreProperties>
</file>